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70749842"/>
        <c:axId val="52684417"/>
      </c:barChart>
      <c:catAx>
        <c:axId val="70749842"/>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2684417"/>
        <c:crosses val="autoZero"/>
        <c:auto val="1"/>
        <c:lblAlgn val="ctr"/>
        <c:lblOffset val="100"/>
        <c:noMultiLvlLbl val="0"/>
      </c:catAx>
      <c:valAx>
        <c:axId val="52684417"/>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0749842"/>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CFC38-1B2F-4D76-81C9-B373E4E78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09EEE-0CCF-4633-8FD6-1E8F3B0C2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5ABB1-E0B1-4B18-812B-0D58D167B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4FBCC-58D8-4E4F-9623-F8EC48F71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BA93B9-240E-420A-80AD-BBCE0C1E7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33DA0-8A86-4521-B6FE-0B58EA822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692F7-D419-4885-A79B-5E2C1A6CD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5CD0C-3CE2-4992-840D-B7F3BF16A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2CA32-E8FF-4F6B-A4D5-D8C519F50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D074A-3DDB-4CE6-8DDC-C07FCBADF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3DFCF-8F96-4284-8DFE-78FDC6F63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07A82-4E9B-4E78-806D-D05ED9436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54D4F-0C29-43AD-BC52-66928368A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8A83D-3DDF-43AC-9182-5AD55F3A0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30402-5F45-4241-8ACF-DA06747CA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1C4AD1-0D64-4E6D-B5DC-99AD05605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1405BE-6AF4-41EC-BA8F-6164A5E1D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6F07D-A369-4DA2-AD8D-8FFC21376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6716E-2E43-438E-911F-D3C76436F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2E784-827E-4352-8F90-B47B49952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E7461-FA2C-4C38-9FE2-7EBC4E522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B74FD-656B-45D2-B406-08905D0F8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0354F-420E-4BD3-9180-E537A3DBD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21322-7BC9-4C7A-A2C9-E0F200279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58665E-16C5-4A57-805D-239A59744E4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273413-2801-4CD9-8E2D-82AAD3190CF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